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4611600" y="1514520"/>
            <a:ext cx="3776760" cy="2814480"/>
          </a:xfrm>
          <a:prstGeom prst="rect">
            <a:avLst/>
          </a:prstGeom>
          <a:solidFill>
            <a:srgbClr val="7bca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755640" y="4417920"/>
            <a:ext cx="7632720" cy="1675080"/>
          </a:xfrm>
          <a:prstGeom prst="rect">
            <a:avLst/>
          </a:prstGeom>
          <a:solidFill>
            <a:srgbClr val="7bcafb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755640" y="1514520"/>
            <a:ext cx="1835280" cy="28144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2684520" y="1514520"/>
            <a:ext cx="1834920" cy="28144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503280" y="2502000"/>
            <a:ext cx="8137440" cy="25876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2" name="Rounded Rectangle 4"/>
          <p:cNvSpPr/>
          <p:nvPr/>
        </p:nvSpPr>
        <p:spPr>
          <a:xfrm>
            <a:off x="760320" y="4340160"/>
            <a:ext cx="2468520" cy="175284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3" name="Rounded Rectangle 5"/>
          <p:cNvSpPr/>
          <p:nvPr/>
        </p:nvSpPr>
        <p:spPr>
          <a:xfrm>
            <a:off x="3336840" y="4340160"/>
            <a:ext cx="2470320" cy="175284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4" name="Rounded Rectangle 6"/>
          <p:cNvSpPr/>
          <p:nvPr/>
        </p:nvSpPr>
        <p:spPr>
          <a:xfrm>
            <a:off x="5915160" y="4340160"/>
            <a:ext cx="2468520" cy="175284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5" name="Rounded Rectangle 7"/>
          <p:cNvSpPr/>
          <p:nvPr/>
        </p:nvSpPr>
        <p:spPr>
          <a:xfrm>
            <a:off x="755640" y="2494080"/>
            <a:ext cx="2468520" cy="175248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6" name="Rounded Rectangle 8"/>
          <p:cNvSpPr/>
          <p:nvPr/>
        </p:nvSpPr>
        <p:spPr>
          <a:xfrm>
            <a:off x="3332160" y="2494080"/>
            <a:ext cx="2470320" cy="175248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7" name="Rounded Rectangle 9"/>
          <p:cNvSpPr/>
          <p:nvPr/>
        </p:nvSpPr>
        <p:spPr>
          <a:xfrm>
            <a:off x="5910120" y="2494080"/>
            <a:ext cx="2468880" cy="175248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3753000" y="4616280"/>
            <a:ext cx="2274840" cy="1467000"/>
          </a:xfrm>
          <a:prstGeom prst="rect">
            <a:avLst/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3753000" y="3067200"/>
            <a:ext cx="2274840" cy="146052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3753000" y="1514520"/>
            <a:ext cx="2274840" cy="1463760"/>
          </a:xfrm>
          <a:prstGeom prst="rect">
            <a:avLst/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6119640" y="4616280"/>
            <a:ext cx="2275200" cy="146700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6119640" y="3067200"/>
            <a:ext cx="2275200" cy="1460520"/>
          </a:xfrm>
          <a:prstGeom prst="rect">
            <a:avLst/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6119640" y="1514520"/>
            <a:ext cx="2275200" cy="14637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ounded Rectangle 3"/>
          <p:cNvSpPr/>
          <p:nvPr/>
        </p:nvSpPr>
        <p:spPr>
          <a:xfrm>
            <a:off x="503280" y="2930400"/>
            <a:ext cx="8137440" cy="341496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2" name="Rounded Rectangle 4"/>
          <p:cNvSpPr/>
          <p:nvPr/>
        </p:nvSpPr>
        <p:spPr>
          <a:xfrm>
            <a:off x="503280" y="512640"/>
            <a:ext cx="8137440" cy="219240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3" name="Title 1"/>
          <p:cNvSpPr/>
          <p:nvPr/>
        </p:nvSpPr>
        <p:spPr>
          <a:xfrm>
            <a:off x="628560" y="307188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Sassoon Infant Md"/>
              </a:rPr>
              <a:t>Success Criteria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4" name="Title 1"/>
          <p:cNvSpPr/>
          <p:nvPr/>
        </p:nvSpPr>
        <p:spPr>
          <a:xfrm>
            <a:off x="628560" y="73512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Sassoon Infant Md"/>
              </a:rPr>
              <a:t>Aim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5" name="Content Placeholder 15"/>
          <p:cNvSpPr/>
          <p:nvPr/>
        </p:nvSpPr>
        <p:spPr>
          <a:xfrm>
            <a:off x="628560" y="3467160"/>
            <a:ext cx="78868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252000" tIns="252000" bIns="180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tatement 1 Lorem ipsum dolor sit amet, consectetur adipiscing elit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tatement 2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ub statement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c1477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7200" y="1514520"/>
            <a:ext cx="8220240" cy="488160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755640" y="1514520"/>
            <a:ext cx="7632720" cy="45784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196" name="Group 5"/>
          <p:cNvGrpSpPr/>
          <p:nvPr/>
        </p:nvGrpSpPr>
        <p:grpSpPr>
          <a:xfrm>
            <a:off x="4002120" y="1738440"/>
            <a:ext cx="4189320" cy="4128840"/>
            <a:chOff x="4002120" y="1738440"/>
            <a:chExt cx="4189320" cy="4128840"/>
          </a:xfrm>
        </p:grpSpPr>
        <p:sp>
          <p:nvSpPr>
            <p:cNvPr id="197" name="Oval 6"/>
            <p:cNvSpPr/>
            <p:nvPr/>
          </p:nvSpPr>
          <p:spPr>
            <a:xfrm>
              <a:off x="4002120" y="1738440"/>
              <a:ext cx="1998720" cy="199692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198" name="Oval 7"/>
            <p:cNvSpPr/>
            <p:nvPr/>
          </p:nvSpPr>
          <p:spPr>
            <a:xfrm>
              <a:off x="6192720" y="1738440"/>
              <a:ext cx="1998720" cy="199692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199" name="Oval 8"/>
            <p:cNvSpPr/>
            <p:nvPr/>
          </p:nvSpPr>
          <p:spPr>
            <a:xfrm>
              <a:off x="6192720" y="3868920"/>
              <a:ext cx="1996920" cy="199836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200" name="Oval 9"/>
            <p:cNvSpPr/>
            <p:nvPr/>
          </p:nvSpPr>
          <p:spPr>
            <a:xfrm>
              <a:off x="4002120" y="3868920"/>
              <a:ext cx="1998720" cy="199836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4660920" y="1514520"/>
            <a:ext cx="3691080" cy="4578480"/>
          </a:xfrm>
          <a:prstGeom prst="rect">
            <a:avLst/>
          </a:prstGeom>
          <a:solidFill>
            <a:srgbClr val="a7dcfd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750960" y="1514520"/>
            <a:ext cx="3821040" cy="108576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750960" y="2678040"/>
            <a:ext cx="3821040" cy="108576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750960" y="3841920"/>
            <a:ext cx="3821040" cy="108720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750960" y="5006880"/>
            <a:ext cx="3821040" cy="108612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895480" y="1514520"/>
            <a:ext cx="5492880" cy="2878200"/>
          </a:xfrm>
          <a:prstGeom prst="rect">
            <a:avLst/>
          </a:prstGeom>
          <a:solidFill>
            <a:srgbClr val="f0dd85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755640" y="4481640"/>
            <a:ext cx="7632720" cy="1611360"/>
          </a:xfrm>
          <a:prstGeom prst="rect">
            <a:avLst/>
          </a:prstGeom>
          <a:solidFill>
            <a:srgbClr val="a7d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755640" y="1514520"/>
            <a:ext cx="2036880" cy="2878200"/>
          </a:xfrm>
          <a:prstGeom prst="rect">
            <a:avLst/>
          </a:prstGeom>
          <a:solidFill>
            <a:srgbClr val="f0dd85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755640" y="1514520"/>
            <a:ext cx="2852640" cy="4578480"/>
          </a:xfrm>
          <a:prstGeom prst="rect">
            <a:avLst/>
          </a:prstGeom>
          <a:solidFill>
            <a:srgbClr val="f0dd85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3683160" y="4614840"/>
            <a:ext cx="4705200" cy="14781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3683160" y="1519200"/>
            <a:ext cx="4705200" cy="14781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683160" y="3067200"/>
            <a:ext cx="4705200" cy="147780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3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1" descr=""/>
          <p:cNvPicPr/>
          <p:nvPr/>
        </p:nvPicPr>
        <p:blipFill>
          <a:blip r:embed="rId1"/>
          <a:stretch/>
        </p:blipFill>
        <p:spPr>
          <a:xfrm>
            <a:off x="2517840" y="2071800"/>
            <a:ext cx="4133880" cy="316368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5"/>
          <p:cNvSpPr/>
          <p:nvPr/>
        </p:nvSpPr>
        <p:spPr>
          <a:xfrm>
            <a:off x="-139680" y="343080"/>
            <a:ext cx="9448920" cy="13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4" name="Title 20"/>
          <p:cNvSpPr/>
          <p:nvPr/>
        </p:nvSpPr>
        <p:spPr>
          <a:xfrm>
            <a:off x="420840" y="620640"/>
            <a:ext cx="821988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1c1c1c"/>
                </a:solidFill>
                <a:latin typeface="ChunkFive Roman"/>
              </a:rPr>
              <a:t>Year 6 Grammar Revision</a:t>
            </a:r>
            <a:endParaRPr b="0" lang="en-US" sz="4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5" name="Title 20"/>
          <p:cNvSpPr/>
          <p:nvPr/>
        </p:nvSpPr>
        <p:spPr>
          <a:xfrm>
            <a:off x="2697120" y="3122640"/>
            <a:ext cx="3665520" cy="86688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c1c1c"/>
                </a:solidFill>
                <a:latin typeface="Kalam"/>
                <a:ea typeface="Kalam"/>
              </a:rPr>
              <a:t>Prepositions</a:t>
            </a:r>
            <a:endParaRPr b="0" lang="en-US" sz="44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26" name="Picture 3" descr=""/>
          <p:cNvPicPr/>
          <p:nvPr/>
        </p:nvPicPr>
        <p:blipFill>
          <a:blip r:embed="rId2"/>
          <a:stretch/>
        </p:blipFill>
        <p:spPr>
          <a:xfrm>
            <a:off x="3949560" y="1028880"/>
            <a:ext cx="6256440" cy="88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8" name=""/>
          <p:cNvGraphicFramePr/>
          <p:nvPr/>
        </p:nvGraphicFramePr>
        <p:xfrm>
          <a:off x="812880" y="2624040"/>
          <a:ext cx="7507080" cy="2787840"/>
        </p:xfrm>
        <a:graphic>
          <a:graphicData uri="http://schemas.openxmlformats.org/drawingml/2006/table">
            <a:tbl>
              <a:tblPr/>
              <a:tblGrid>
                <a:gridCol w="2502000"/>
                <a:gridCol w="2503440"/>
                <a:gridCol w="2501640"/>
              </a:tblGrid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5cbc2"/>
                          </a:solidFill>
                          <a:latin typeface="Sassoon Infant Md"/>
                          <a:ea typeface="Sassoon Infant Rg"/>
                        </a:rPr>
                        <a:t>Preposition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5cbc2"/>
                          </a:solidFill>
                          <a:latin typeface="Sassoon Infant Md"/>
                          <a:ea typeface="Sassoon Infant Rg"/>
                        </a:rPr>
                        <a:t>Subordinating</a:t>
                      </a:r>
                      <a:br>
                        <a:rPr sz="1600"/>
                      </a:br>
                      <a:r>
                        <a:rPr b="1" lang="en-GB" sz="1600" spc="-1" strike="noStrike">
                          <a:solidFill>
                            <a:srgbClr val="35cbc2"/>
                          </a:solidFill>
                          <a:latin typeface="Sassoon Infant Md"/>
                          <a:ea typeface="Sassoon Infant Rg"/>
                        </a:rPr>
                        <a:t>Conjunction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5cbc2"/>
                          </a:solidFill>
                          <a:latin typeface="Sassoon Infant Md"/>
                        </a:rPr>
                        <a:t>After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Sassoon Infant Rg"/>
                        </a:rPr>
                        <a:t> Brian left the band, he decided to go solo.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Sassoon Infant Rg"/>
                        </a:rPr>
                        <a:t>Baby giraffes begin to walk shortly </a:t>
                      </a:r>
                      <a:r>
                        <a:rPr b="1" lang="en-GB" sz="1600" spc="-1" strike="noStrike">
                          <a:solidFill>
                            <a:srgbClr val="35cbc2"/>
                          </a:solidFill>
                          <a:latin typeface="Sassoon Infant Md"/>
                        </a:rPr>
                        <a:t>after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Sassoon Infant Rg"/>
                        </a:rPr>
                        <a:t> birth.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Sassoon Infant Rg"/>
                        </a:rPr>
                        <a:t>I will start at a new school </a:t>
                      </a:r>
                      <a:r>
                        <a:rPr b="1" lang="en-GB" sz="1600" spc="-1" strike="noStrike">
                          <a:solidFill>
                            <a:srgbClr val="35cbc2"/>
                          </a:solidFill>
                          <a:latin typeface="Sassoon Infant Md"/>
                        </a:rPr>
                        <a:t>after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Sassoon Infant Rg"/>
                        </a:rPr>
                        <a:t> the holidays.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9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Sassoon Infant Md"/>
              </a:rPr>
              <a:t>Quiz! Part 3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759240" y="1518120"/>
            <a:ext cx="7625520" cy="5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Put a tick in each row to show whether </a:t>
            </a:r>
            <a:r>
              <a:rPr b="1" lang="en-GB" sz="1800" spc="-1" strike="noStrike">
                <a:solidFill>
                  <a:srgbClr val="ffffff"/>
                </a:solidFill>
                <a:latin typeface="Sassoon Infant Md"/>
              </a:rPr>
              <a:t>after</a:t>
            </a: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 is being used as a </a:t>
            </a:r>
            <a:r>
              <a:rPr b="1" lang="en-GB" sz="1800" spc="-1" strike="noStrike">
                <a:solidFill>
                  <a:srgbClr val="ffffff"/>
                </a:solidFill>
                <a:latin typeface="Sassoon Infant Md"/>
              </a:rPr>
              <a:t>preposition</a:t>
            </a: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 or a </a:t>
            </a:r>
            <a:r>
              <a:rPr b="1" lang="en-GB" sz="1800" spc="-1" strike="noStrike">
                <a:solidFill>
                  <a:srgbClr val="ffffff"/>
                </a:solidFill>
                <a:latin typeface="Sassoon Infant Md"/>
              </a:rPr>
              <a:t>subordinating conjunction</a:t>
            </a: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. 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751" name="Picture 6" descr=""/>
          <p:cNvPicPr/>
          <p:nvPr/>
        </p:nvPicPr>
        <p:blipFill>
          <a:blip r:embed="rId1"/>
          <a:stretch/>
        </p:blipFill>
        <p:spPr>
          <a:xfrm>
            <a:off x="6867360" y="3459240"/>
            <a:ext cx="492120" cy="42552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3" descr=""/>
          <p:cNvPicPr/>
          <p:nvPr/>
        </p:nvPicPr>
        <p:blipFill>
          <a:blip r:embed="rId2"/>
          <a:stretch/>
        </p:blipFill>
        <p:spPr>
          <a:xfrm>
            <a:off x="4321080" y="4160880"/>
            <a:ext cx="492120" cy="4237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5" descr=""/>
          <p:cNvPicPr/>
          <p:nvPr/>
        </p:nvPicPr>
        <p:blipFill>
          <a:blip r:embed="rId3"/>
          <a:stretch/>
        </p:blipFill>
        <p:spPr>
          <a:xfrm>
            <a:off x="4321080" y="4834080"/>
            <a:ext cx="492120" cy="42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4"/>
          <p:cNvGrpSpPr/>
          <p:nvPr/>
        </p:nvGrpSpPr>
        <p:grpSpPr>
          <a:xfrm>
            <a:off x="2481120" y="1025640"/>
            <a:ext cx="4938840" cy="5416560"/>
            <a:chOff x="2481120" y="1025640"/>
            <a:chExt cx="4938840" cy="5416560"/>
          </a:xfrm>
        </p:grpSpPr>
        <p:pic>
          <p:nvPicPr>
            <p:cNvPr id="755" name="Picture 1" descr=""/>
            <p:cNvPicPr/>
            <p:nvPr/>
          </p:nvPicPr>
          <p:blipFill>
            <a:blip r:embed="rId1"/>
            <a:stretch/>
          </p:blipFill>
          <p:spPr>
            <a:xfrm>
              <a:off x="2481120" y="1025640"/>
              <a:ext cx="4938840" cy="541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Title 20"/>
            <p:cNvSpPr/>
            <p:nvPr/>
          </p:nvSpPr>
          <p:spPr>
            <a:xfrm>
              <a:off x="2697120" y="1517040"/>
              <a:ext cx="3665160" cy="866520"/>
            </a:xfrm>
            <a:prstGeom prst="roundRect">
              <a:avLst>
                <a:gd name="adj" fmla="val 96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6000"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1c1c1c"/>
                  </a:solidFill>
                  <a:latin typeface="Kalam"/>
                  <a:ea typeface="Kalam"/>
                </a:rPr>
                <a:t>Are you feeling confident with prepositions?</a:t>
              </a:r>
              <a:endParaRPr b="0" lang="en-US" sz="2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Prepositions of Location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28" name="Rounded Rectangle 2"/>
          <p:cNvSpPr/>
          <p:nvPr/>
        </p:nvSpPr>
        <p:spPr>
          <a:xfrm>
            <a:off x="917640" y="1473120"/>
            <a:ext cx="7299360" cy="601920"/>
          </a:xfrm>
          <a:prstGeom prst="roundRect">
            <a:avLst>
              <a:gd name="adj" fmla="val 16667"/>
            </a:avLst>
          </a:prstGeom>
          <a:solidFill>
            <a:srgbClr val="35c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Prepositions are used to show the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location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,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time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or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movement 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of nouns or pronouns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9" name="Rounded Rectangle 7"/>
          <p:cNvSpPr/>
          <p:nvPr/>
        </p:nvSpPr>
        <p:spPr>
          <a:xfrm>
            <a:off x="917640" y="2166840"/>
            <a:ext cx="7299360" cy="601920"/>
          </a:xfrm>
          <a:prstGeom prst="roundRect">
            <a:avLst>
              <a:gd name="adj" fmla="val 16667"/>
            </a:avLst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  <a:ea typeface="Arial"/>
              </a:rPr>
              <a:t>Prepositions of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  <a:ea typeface="Arial"/>
              </a:rPr>
              <a:t>location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  <a:ea typeface="Arial"/>
              </a:rPr>
              <a:t> show the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  <a:ea typeface="Arial"/>
              </a:rPr>
              <a:t>place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  <a:ea typeface="Arial"/>
              </a:rPr>
              <a:t> or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  <a:ea typeface="Arial"/>
              </a:rPr>
              <a:t>position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  <a:ea typeface="Arial"/>
              </a:rPr>
              <a:t> of a noun or pronoun e.g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0" name="Title 1"/>
          <p:cNvSpPr/>
          <p:nvPr/>
        </p:nvSpPr>
        <p:spPr>
          <a:xfrm>
            <a:off x="457200" y="306864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tools were inside the garden shed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1" name="Title 1"/>
          <p:cNvSpPr/>
          <p:nvPr/>
        </p:nvSpPr>
        <p:spPr>
          <a:xfrm>
            <a:off x="457200" y="4059360"/>
            <a:ext cx="8220240" cy="9954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Behind the cloud, the sun peeped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2" name="Title 1"/>
          <p:cNvSpPr/>
          <p:nvPr/>
        </p:nvSpPr>
        <p:spPr>
          <a:xfrm>
            <a:off x="457200" y="505152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Harry sat under the shady tree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33" name="Picture 4" descr=""/>
          <p:cNvPicPr/>
          <p:nvPr/>
        </p:nvPicPr>
        <p:blipFill>
          <a:blip r:embed="rId1"/>
          <a:stretch/>
        </p:blipFill>
        <p:spPr>
          <a:xfrm>
            <a:off x="-790560" y="3548160"/>
            <a:ext cx="2327400" cy="3004920"/>
          </a:xfrm>
          <a:prstGeom prst="rect">
            <a:avLst/>
          </a:prstGeom>
          <a:ln w="0">
            <a:noFill/>
          </a:ln>
        </p:spPr>
      </p:pic>
      <p:sp>
        <p:nvSpPr>
          <p:cNvPr id="634" name="Title 1"/>
          <p:cNvSpPr/>
          <p:nvPr/>
        </p:nvSpPr>
        <p:spPr>
          <a:xfrm>
            <a:off x="457200" y="306864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tools were </a:t>
            </a:r>
            <a:r>
              <a:rPr b="0" lang="en-GB" sz="28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inside</a:t>
            </a: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the garden shed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5" name="Title 1"/>
          <p:cNvSpPr/>
          <p:nvPr/>
        </p:nvSpPr>
        <p:spPr>
          <a:xfrm>
            <a:off x="452520" y="4057560"/>
            <a:ext cx="821988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Behind</a:t>
            </a: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the cloud, the sun peeped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6" name="Title 1"/>
          <p:cNvSpPr/>
          <p:nvPr/>
        </p:nvSpPr>
        <p:spPr>
          <a:xfrm>
            <a:off x="453960" y="5049720"/>
            <a:ext cx="822024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Harry sat </a:t>
            </a:r>
            <a:r>
              <a:rPr b="0" lang="en-GB" sz="28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under</a:t>
            </a: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the shady tree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Prepositions of Location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38" name="Rounded Rectangle 2"/>
          <p:cNvSpPr/>
          <p:nvPr/>
        </p:nvSpPr>
        <p:spPr>
          <a:xfrm>
            <a:off x="685800" y="1473120"/>
            <a:ext cx="7753320" cy="601920"/>
          </a:xfrm>
          <a:prstGeom prst="roundRect">
            <a:avLst>
              <a:gd name="adj" fmla="val 16667"/>
            </a:avLst>
          </a:prstGeom>
          <a:solidFill>
            <a:srgbClr val="35c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There are many prepositions of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location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 Here are a few of the most commonly used ones: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639" name="Group 3"/>
          <p:cNvGrpSpPr/>
          <p:nvPr/>
        </p:nvGrpSpPr>
        <p:grpSpPr>
          <a:xfrm>
            <a:off x="685800" y="2327400"/>
            <a:ext cx="1440000" cy="2334960"/>
            <a:chOff x="685800" y="2327400"/>
            <a:chExt cx="1440000" cy="2334960"/>
          </a:xfrm>
        </p:grpSpPr>
        <p:sp>
          <p:nvSpPr>
            <p:cNvPr id="640" name="Title 1"/>
            <p:cNvSpPr/>
            <p:nvPr/>
          </p:nvSpPr>
          <p:spPr>
            <a:xfrm>
              <a:off x="761760" y="2327400"/>
              <a:ext cx="1287720" cy="480960"/>
            </a:xfrm>
            <a:prstGeom prst="roundRect">
              <a:avLst>
                <a:gd name="adj" fmla="val 96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252000" tIns="202320" bIns="202320" anchor="ctr" anchorCtr="1">
              <a:noAutofit/>
            </a:bodyPr>
            <a:p>
              <a:pPr algn="ctr"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Sassoon Infant Md"/>
                  <a:ea typeface="Sassoon Infant Rg"/>
                </a:rPr>
                <a:t>beside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41" name="Title 1"/>
            <p:cNvSpPr/>
            <p:nvPr/>
          </p:nvSpPr>
          <p:spPr>
            <a:xfrm>
              <a:off x="685800" y="4181400"/>
              <a:ext cx="1440000" cy="480960"/>
            </a:xfrm>
            <a:prstGeom prst="roundRect">
              <a:avLst>
                <a:gd name="adj" fmla="val 96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252000" tIns="202320" bIns="202320" anchor="ctr" anchorCtr="1">
              <a:noAutofit/>
            </a:bodyPr>
            <a:p>
              <a:pPr algn="ctr"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Sassoon Infant Md"/>
                  <a:ea typeface="Sassoon Infant Rg"/>
                </a:rPr>
                <a:t>between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grpSp>
        <p:nvGrpSpPr>
          <p:cNvPr id="642" name="Group 24"/>
          <p:cNvGrpSpPr/>
          <p:nvPr/>
        </p:nvGrpSpPr>
        <p:grpSpPr>
          <a:xfrm>
            <a:off x="2224080" y="2327400"/>
            <a:ext cx="1573200" cy="2334960"/>
            <a:chOff x="2224080" y="2327400"/>
            <a:chExt cx="1573200" cy="2334960"/>
          </a:xfrm>
        </p:grpSpPr>
        <p:sp>
          <p:nvSpPr>
            <p:cNvPr id="643" name="Title 1"/>
            <p:cNvSpPr/>
            <p:nvPr/>
          </p:nvSpPr>
          <p:spPr>
            <a:xfrm>
              <a:off x="2224080" y="2327400"/>
              <a:ext cx="1573200" cy="480960"/>
            </a:xfrm>
            <a:prstGeom prst="roundRect">
              <a:avLst>
                <a:gd name="adj" fmla="val 96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252000" tIns="202320" bIns="202320" anchor="ctr" anchorCtr="1">
              <a:noAutofit/>
            </a:bodyPr>
            <a:p>
              <a:pPr algn="ctr"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Sassoon Infant Md"/>
                  <a:ea typeface="Sassoon Infant Rg"/>
                </a:rPr>
                <a:t>in front of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44" name="Title 1"/>
            <p:cNvSpPr/>
            <p:nvPr/>
          </p:nvSpPr>
          <p:spPr>
            <a:xfrm>
              <a:off x="2290680" y="4181400"/>
              <a:ext cx="1440000" cy="480960"/>
            </a:xfrm>
            <a:prstGeom prst="roundRect">
              <a:avLst>
                <a:gd name="adj" fmla="val 96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252000" tIns="202320" bIns="202320" anchor="ctr" anchorCtr="1">
              <a:noAutofit/>
            </a:bodyPr>
            <a:p>
              <a:pPr algn="ctr"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Sassoon Infant Md"/>
                  <a:ea typeface="Sassoon Infant Rg"/>
                </a:rPr>
                <a:t>behind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grpSp>
        <p:nvGrpSpPr>
          <p:cNvPr id="645" name="Group 27"/>
          <p:cNvGrpSpPr/>
          <p:nvPr/>
        </p:nvGrpSpPr>
        <p:grpSpPr>
          <a:xfrm>
            <a:off x="3895560" y="2327400"/>
            <a:ext cx="1440000" cy="2334960"/>
            <a:chOff x="3895560" y="2327400"/>
            <a:chExt cx="1440000" cy="2334960"/>
          </a:xfrm>
        </p:grpSpPr>
        <p:sp>
          <p:nvSpPr>
            <p:cNvPr id="646" name="Title 1"/>
            <p:cNvSpPr/>
            <p:nvPr/>
          </p:nvSpPr>
          <p:spPr>
            <a:xfrm>
              <a:off x="3971520" y="2327400"/>
              <a:ext cx="1287720" cy="480960"/>
            </a:xfrm>
            <a:prstGeom prst="roundRect">
              <a:avLst>
                <a:gd name="adj" fmla="val 96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252000" tIns="202320" bIns="202320" anchor="ctr" anchorCtr="1">
              <a:noAutofit/>
            </a:bodyPr>
            <a:p>
              <a:pPr algn="ctr"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Sassoon Infant Md"/>
                  <a:ea typeface="Sassoon Infant Rg"/>
                </a:rPr>
                <a:t>near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47" name="Title 1"/>
            <p:cNvSpPr/>
            <p:nvPr/>
          </p:nvSpPr>
          <p:spPr>
            <a:xfrm>
              <a:off x="3895560" y="4181400"/>
              <a:ext cx="1440000" cy="480960"/>
            </a:xfrm>
            <a:prstGeom prst="roundRect">
              <a:avLst>
                <a:gd name="adj" fmla="val 96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252000" tIns="202320" bIns="202320" anchor="ctr" anchorCtr="1">
              <a:noAutofit/>
            </a:bodyPr>
            <a:p>
              <a:pPr algn="ctr"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Sassoon Infant Md"/>
                  <a:ea typeface="Sassoon Infant Rg"/>
                </a:rPr>
                <a:t>far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grpSp>
        <p:nvGrpSpPr>
          <p:cNvPr id="648" name="Group 30"/>
          <p:cNvGrpSpPr/>
          <p:nvPr/>
        </p:nvGrpSpPr>
        <p:grpSpPr>
          <a:xfrm>
            <a:off x="5435640" y="2327400"/>
            <a:ext cx="1440000" cy="2334960"/>
            <a:chOff x="5435640" y="2327400"/>
            <a:chExt cx="1440000" cy="2334960"/>
          </a:xfrm>
        </p:grpSpPr>
        <p:sp>
          <p:nvSpPr>
            <p:cNvPr id="649" name="Title 1"/>
            <p:cNvSpPr/>
            <p:nvPr/>
          </p:nvSpPr>
          <p:spPr>
            <a:xfrm>
              <a:off x="5511600" y="2327400"/>
              <a:ext cx="1287720" cy="480960"/>
            </a:xfrm>
            <a:prstGeom prst="roundRect">
              <a:avLst>
                <a:gd name="adj" fmla="val 96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252000" tIns="202320" bIns="202320" anchor="ctr" anchorCtr="1">
              <a:noAutofit/>
            </a:bodyPr>
            <a:p>
              <a:pPr algn="ctr"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Sassoon Infant Md"/>
                  <a:ea typeface="Sassoon Infant Rg"/>
                </a:rPr>
                <a:t>above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50" name="Title 1"/>
            <p:cNvSpPr/>
            <p:nvPr/>
          </p:nvSpPr>
          <p:spPr>
            <a:xfrm>
              <a:off x="5435640" y="4181400"/>
              <a:ext cx="1440000" cy="480960"/>
            </a:xfrm>
            <a:prstGeom prst="roundRect">
              <a:avLst>
                <a:gd name="adj" fmla="val 96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252000" tIns="202320" bIns="202320" anchor="ctr" anchorCtr="1">
              <a:noAutofit/>
            </a:bodyPr>
            <a:p>
              <a:pPr algn="ctr"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Sassoon Infant Md"/>
                  <a:ea typeface="Sassoon Infant Rg"/>
                </a:rPr>
                <a:t>below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grpSp>
        <p:nvGrpSpPr>
          <p:cNvPr id="651" name="Group 33"/>
          <p:cNvGrpSpPr/>
          <p:nvPr/>
        </p:nvGrpSpPr>
        <p:grpSpPr>
          <a:xfrm>
            <a:off x="6975360" y="2327400"/>
            <a:ext cx="1440000" cy="2334960"/>
            <a:chOff x="6975360" y="2327400"/>
            <a:chExt cx="1440000" cy="2334960"/>
          </a:xfrm>
        </p:grpSpPr>
        <p:sp>
          <p:nvSpPr>
            <p:cNvPr id="652" name="Title 1"/>
            <p:cNvSpPr/>
            <p:nvPr/>
          </p:nvSpPr>
          <p:spPr>
            <a:xfrm>
              <a:off x="7051320" y="2327400"/>
              <a:ext cx="1287720" cy="480960"/>
            </a:xfrm>
            <a:prstGeom prst="roundRect">
              <a:avLst>
                <a:gd name="adj" fmla="val 96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252000" tIns="202320" bIns="202320" anchor="ctr" anchorCtr="1">
              <a:noAutofit/>
            </a:bodyPr>
            <a:p>
              <a:pPr algn="ctr"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Sassoon Infant Md"/>
                  <a:ea typeface="Sassoon Infant Rg"/>
                </a:rPr>
                <a:t>inside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53" name="Title 1"/>
            <p:cNvSpPr/>
            <p:nvPr/>
          </p:nvSpPr>
          <p:spPr>
            <a:xfrm>
              <a:off x="6975360" y="4181400"/>
              <a:ext cx="1440000" cy="480960"/>
            </a:xfrm>
            <a:prstGeom prst="roundRect">
              <a:avLst>
                <a:gd name="adj" fmla="val 96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252000" tIns="202320" bIns="202320" anchor="ctr" anchorCtr="1">
              <a:noAutofit/>
            </a:bodyPr>
            <a:p>
              <a:pPr algn="ctr"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Sassoon Infant Md"/>
                  <a:ea typeface="Sassoon Infant Rg"/>
                </a:rPr>
                <a:t>outside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pic>
        <p:nvPicPr>
          <p:cNvPr id="654" name="Picture 5" descr=""/>
          <p:cNvPicPr/>
          <p:nvPr/>
        </p:nvPicPr>
        <p:blipFill>
          <a:blip r:embed="rId1"/>
          <a:stretch/>
        </p:blipFill>
        <p:spPr>
          <a:xfrm>
            <a:off x="5365800" y="2755800"/>
            <a:ext cx="1579680" cy="1117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36" descr=""/>
          <p:cNvPicPr/>
          <p:nvPr/>
        </p:nvPicPr>
        <p:blipFill>
          <a:blip r:embed="rId2"/>
          <a:stretch/>
        </p:blipFill>
        <p:spPr>
          <a:xfrm>
            <a:off x="5365800" y="4834080"/>
            <a:ext cx="1579680" cy="1117440"/>
          </a:xfrm>
          <a:prstGeom prst="rect">
            <a:avLst/>
          </a:prstGeom>
          <a:ln w="0">
            <a:noFill/>
          </a:ln>
        </p:spPr>
      </p:pic>
      <p:sp>
        <p:nvSpPr>
          <p:cNvPr id="656" name="Oval 6"/>
          <p:cNvSpPr/>
          <p:nvPr/>
        </p:nvSpPr>
        <p:spPr>
          <a:xfrm>
            <a:off x="6367320" y="3040200"/>
            <a:ext cx="206640" cy="206280"/>
          </a:xfrm>
          <a:prstGeom prst="ellipse">
            <a:avLst/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57" name="Oval 37"/>
          <p:cNvSpPr/>
          <p:nvPr/>
        </p:nvSpPr>
        <p:spPr>
          <a:xfrm>
            <a:off x="6367320" y="5730840"/>
            <a:ext cx="206640" cy="206280"/>
          </a:xfrm>
          <a:prstGeom prst="ellipse">
            <a:avLst/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58" name="Picture 39" descr=""/>
          <p:cNvPicPr/>
          <p:nvPr/>
        </p:nvPicPr>
        <p:blipFill>
          <a:blip r:embed="rId3"/>
          <a:stretch/>
        </p:blipFill>
        <p:spPr>
          <a:xfrm>
            <a:off x="1271520" y="4729320"/>
            <a:ext cx="295200" cy="9601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41" descr=""/>
          <p:cNvPicPr/>
          <p:nvPr/>
        </p:nvPicPr>
        <p:blipFill>
          <a:blip r:embed="rId4"/>
          <a:stretch/>
        </p:blipFill>
        <p:spPr>
          <a:xfrm>
            <a:off x="1673280" y="4683240"/>
            <a:ext cx="260280" cy="1006200"/>
          </a:xfrm>
          <a:prstGeom prst="rect">
            <a:avLst/>
          </a:prstGeom>
          <a:ln w="0">
            <a:noFill/>
          </a:ln>
        </p:spPr>
      </p:pic>
      <p:cxnSp>
        <p:nvCxnSpPr>
          <p:cNvPr id="660" name="Straight Arrow Connector 43"/>
          <p:cNvCxnSpPr/>
          <p:nvPr/>
        </p:nvCxnSpPr>
        <p:spPr>
          <a:xfrm flipV="1">
            <a:off x="1404720" y="5762160"/>
            <a:ext cx="1080" cy="378720"/>
          </a:xfrm>
          <a:prstGeom prst="straightConnector1">
            <a:avLst/>
          </a:prstGeom>
          <a:ln w="54000">
            <a:solidFill>
              <a:srgbClr val="c14779"/>
            </a:solidFill>
            <a:miter/>
            <a:tailEnd len="med" type="triangle" w="med"/>
          </a:ln>
        </p:spPr>
      </p:cxnSp>
      <p:pic>
        <p:nvPicPr>
          <p:cNvPr id="661" name="Picture 46" descr=""/>
          <p:cNvPicPr/>
          <p:nvPr/>
        </p:nvPicPr>
        <p:blipFill>
          <a:blip r:embed="rId5"/>
          <a:stretch/>
        </p:blipFill>
        <p:spPr>
          <a:xfrm>
            <a:off x="1104840" y="2854440"/>
            <a:ext cx="293760" cy="9604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7" descr=""/>
          <p:cNvPicPr/>
          <p:nvPr/>
        </p:nvPicPr>
        <p:blipFill>
          <a:blip r:embed="rId6"/>
          <a:stretch/>
        </p:blipFill>
        <p:spPr>
          <a:xfrm>
            <a:off x="1504800" y="2809800"/>
            <a:ext cx="260640" cy="1005120"/>
          </a:xfrm>
          <a:prstGeom prst="rect">
            <a:avLst/>
          </a:prstGeom>
          <a:ln w="0">
            <a:noFill/>
          </a:ln>
        </p:spPr>
      </p:pic>
      <p:cxnSp>
        <p:nvCxnSpPr>
          <p:cNvPr id="663" name="Straight Arrow Connector 48"/>
          <p:cNvCxnSpPr/>
          <p:nvPr/>
        </p:nvCxnSpPr>
        <p:spPr>
          <a:xfrm flipV="1">
            <a:off x="1236240" y="3887280"/>
            <a:ext cx="1080" cy="378720"/>
          </a:xfrm>
          <a:prstGeom prst="straightConnector1">
            <a:avLst/>
          </a:prstGeom>
          <a:ln w="54000">
            <a:solidFill>
              <a:srgbClr val="c14779"/>
            </a:solidFill>
            <a:miter/>
            <a:tailEnd len="med" type="triangle" w="med"/>
          </a:ln>
        </p:spPr>
      </p:cxnSp>
      <p:pic>
        <p:nvPicPr>
          <p:cNvPr id="664" name="Picture 49" descr=""/>
          <p:cNvPicPr/>
          <p:nvPr/>
        </p:nvPicPr>
        <p:blipFill>
          <a:blip r:embed="rId7"/>
          <a:stretch/>
        </p:blipFill>
        <p:spPr>
          <a:xfrm>
            <a:off x="893880" y="4729320"/>
            <a:ext cx="325440" cy="95724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50"/>
          <p:cNvSpPr/>
          <p:nvPr/>
        </p:nvSpPr>
        <p:spPr>
          <a:xfrm>
            <a:off x="2417760" y="3243240"/>
            <a:ext cx="1185840" cy="504720"/>
          </a:xfrm>
          <a:prstGeom prst="rect">
            <a:avLst/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66" name="Picture 52" descr=""/>
          <p:cNvPicPr/>
          <p:nvPr/>
        </p:nvPicPr>
        <p:blipFill>
          <a:blip r:embed="rId8"/>
          <a:stretch/>
        </p:blipFill>
        <p:spPr>
          <a:xfrm>
            <a:off x="2846520" y="4729320"/>
            <a:ext cx="328320" cy="1047600"/>
          </a:xfrm>
          <a:prstGeom prst="rect">
            <a:avLst/>
          </a:prstGeom>
          <a:ln w="0">
            <a:noFill/>
          </a:ln>
        </p:spPr>
      </p:pic>
      <p:sp>
        <p:nvSpPr>
          <p:cNvPr id="667" name="Rectangle 51"/>
          <p:cNvSpPr/>
          <p:nvPr/>
        </p:nvSpPr>
        <p:spPr>
          <a:xfrm>
            <a:off x="2417760" y="5297400"/>
            <a:ext cx="1185840" cy="505080"/>
          </a:xfrm>
          <a:prstGeom prst="rect">
            <a:avLst/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68" name="Picture 53" descr=""/>
          <p:cNvPicPr/>
          <p:nvPr/>
        </p:nvPicPr>
        <p:blipFill>
          <a:blip r:embed="rId9"/>
          <a:stretch/>
        </p:blipFill>
        <p:spPr>
          <a:xfrm>
            <a:off x="2846520" y="2970360"/>
            <a:ext cx="328320" cy="104904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56" descr=""/>
          <p:cNvPicPr/>
          <p:nvPr/>
        </p:nvPicPr>
        <p:blipFill>
          <a:blip r:embed="rId10"/>
          <a:stretch/>
        </p:blipFill>
        <p:spPr>
          <a:xfrm>
            <a:off x="7346880" y="3033720"/>
            <a:ext cx="695520" cy="77940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57" descr=""/>
          <p:cNvPicPr/>
          <p:nvPr/>
        </p:nvPicPr>
        <p:blipFill>
          <a:blip r:embed="rId11"/>
          <a:stretch/>
        </p:blipFill>
        <p:spPr>
          <a:xfrm>
            <a:off x="7175520" y="4925880"/>
            <a:ext cx="1039680" cy="760680"/>
          </a:xfrm>
          <a:prstGeom prst="rect">
            <a:avLst/>
          </a:prstGeom>
          <a:ln w="0">
            <a:noFill/>
          </a:ln>
        </p:spPr>
      </p:pic>
      <p:cxnSp>
        <p:nvCxnSpPr>
          <p:cNvPr id="671" name="Straight Arrow Connector 59"/>
          <p:cNvCxnSpPr/>
          <p:nvPr/>
        </p:nvCxnSpPr>
        <p:spPr>
          <a:xfrm flipV="1">
            <a:off x="8056080" y="5762160"/>
            <a:ext cx="1080" cy="378720"/>
          </a:xfrm>
          <a:prstGeom prst="straightConnector1">
            <a:avLst/>
          </a:prstGeom>
          <a:ln w="54000">
            <a:solidFill>
              <a:srgbClr val="c14779"/>
            </a:solidFill>
            <a:miter/>
            <a:tailEnd len="med" type="triangle" w="med"/>
          </a:ln>
        </p:spPr>
      </p:cxnSp>
      <p:cxnSp>
        <p:nvCxnSpPr>
          <p:cNvPr id="672" name="Straight Arrow Connector 60"/>
          <p:cNvCxnSpPr/>
          <p:nvPr/>
        </p:nvCxnSpPr>
        <p:spPr>
          <a:xfrm flipV="1">
            <a:off x="7694280" y="3887280"/>
            <a:ext cx="1080" cy="378720"/>
          </a:xfrm>
          <a:prstGeom prst="straightConnector1">
            <a:avLst/>
          </a:prstGeom>
          <a:ln w="54000">
            <a:solidFill>
              <a:srgbClr val="c14779"/>
            </a:solidFill>
            <a:miter/>
            <a:tailEnd len="med" type="triangle" w="med"/>
          </a:ln>
        </p:spPr>
      </p:cxnSp>
      <p:pic>
        <p:nvPicPr>
          <p:cNvPr id="673" name="Picture 61" descr=""/>
          <p:cNvPicPr/>
          <p:nvPr/>
        </p:nvPicPr>
        <p:blipFill>
          <a:blip r:embed="rId12"/>
          <a:stretch/>
        </p:blipFill>
        <p:spPr>
          <a:xfrm>
            <a:off x="4281480" y="2792520"/>
            <a:ext cx="401760" cy="102384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62" descr=""/>
          <p:cNvPicPr/>
          <p:nvPr/>
        </p:nvPicPr>
        <p:blipFill>
          <a:blip r:embed="rId13"/>
          <a:stretch/>
        </p:blipFill>
        <p:spPr>
          <a:xfrm>
            <a:off x="4735440" y="2792520"/>
            <a:ext cx="320760" cy="1020600"/>
          </a:xfrm>
          <a:prstGeom prst="rect">
            <a:avLst/>
          </a:prstGeom>
          <a:ln w="0">
            <a:noFill/>
          </a:ln>
        </p:spPr>
      </p:pic>
      <p:cxnSp>
        <p:nvCxnSpPr>
          <p:cNvPr id="675" name="Straight Arrow Connector 63"/>
          <p:cNvCxnSpPr/>
          <p:nvPr/>
        </p:nvCxnSpPr>
        <p:spPr>
          <a:xfrm flipV="1">
            <a:off x="4897080" y="3887280"/>
            <a:ext cx="1080" cy="378720"/>
          </a:xfrm>
          <a:prstGeom prst="straightConnector1">
            <a:avLst/>
          </a:prstGeom>
          <a:ln w="54000">
            <a:solidFill>
              <a:srgbClr val="c14779"/>
            </a:solidFill>
            <a:miter/>
            <a:tailEnd len="med" type="triangle" w="med"/>
          </a:ln>
        </p:spPr>
      </p:cxnSp>
      <p:pic>
        <p:nvPicPr>
          <p:cNvPr id="676" name="Picture 64" descr=""/>
          <p:cNvPicPr/>
          <p:nvPr/>
        </p:nvPicPr>
        <p:blipFill>
          <a:blip r:embed="rId14"/>
          <a:stretch/>
        </p:blipFill>
        <p:spPr>
          <a:xfrm>
            <a:off x="4281480" y="5033880"/>
            <a:ext cx="401760" cy="102420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65" descr=""/>
          <p:cNvPicPr/>
          <p:nvPr/>
        </p:nvPicPr>
        <p:blipFill>
          <a:blip r:embed="rId15"/>
          <a:stretch/>
        </p:blipFill>
        <p:spPr>
          <a:xfrm>
            <a:off x="5002200" y="4640400"/>
            <a:ext cx="169920" cy="541080"/>
          </a:xfrm>
          <a:prstGeom prst="rect">
            <a:avLst/>
          </a:prstGeom>
          <a:ln w="0">
            <a:noFill/>
          </a:ln>
        </p:spPr>
      </p:pic>
      <p:cxnSp>
        <p:nvCxnSpPr>
          <p:cNvPr id="678" name="Straight Arrow Connector 66"/>
          <p:cNvCxnSpPr/>
          <p:nvPr/>
        </p:nvCxnSpPr>
        <p:spPr>
          <a:xfrm flipV="1">
            <a:off x="5086080" y="5252760"/>
            <a:ext cx="1080" cy="380160"/>
          </a:xfrm>
          <a:prstGeom prst="straightConnector1">
            <a:avLst/>
          </a:prstGeom>
          <a:ln w="54000">
            <a:solidFill>
              <a:srgbClr val="c1477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Prepositions of Time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80" name="Rounded Rectangle 2"/>
          <p:cNvSpPr/>
          <p:nvPr/>
        </p:nvSpPr>
        <p:spPr>
          <a:xfrm>
            <a:off x="917640" y="1473120"/>
            <a:ext cx="7299360" cy="758880"/>
          </a:xfrm>
          <a:prstGeom prst="roundRect">
            <a:avLst>
              <a:gd name="adj" fmla="val 16667"/>
            </a:avLst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Some prepositions show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time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 The three most commonly used time prepositions are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at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,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on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and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in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1" name="Title 1"/>
          <p:cNvSpPr/>
          <p:nvPr/>
        </p:nvSpPr>
        <p:spPr>
          <a:xfrm>
            <a:off x="457200" y="2554200"/>
            <a:ext cx="822024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At the weekend, I am going to the cinema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2" name="Title 1"/>
          <p:cNvSpPr/>
          <p:nvPr/>
        </p:nvSpPr>
        <p:spPr>
          <a:xfrm>
            <a:off x="457200" y="3544920"/>
            <a:ext cx="8220240" cy="9954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I go to swimming lessons on Thursdays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3" name="Title 1"/>
          <p:cNvSpPr/>
          <p:nvPr/>
        </p:nvSpPr>
        <p:spPr>
          <a:xfrm>
            <a:off x="457200" y="453708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Leaves turn brown in the Autumn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84" name="Picture 5" descr=""/>
          <p:cNvPicPr/>
          <p:nvPr/>
        </p:nvPicPr>
        <p:blipFill>
          <a:blip r:embed="rId1"/>
          <a:stretch/>
        </p:blipFill>
        <p:spPr>
          <a:xfrm>
            <a:off x="98280" y="5216400"/>
            <a:ext cx="2957760" cy="1506600"/>
          </a:xfrm>
          <a:prstGeom prst="rect">
            <a:avLst/>
          </a:prstGeom>
          <a:ln w="0">
            <a:noFill/>
          </a:ln>
        </p:spPr>
      </p:pic>
      <p:sp>
        <p:nvSpPr>
          <p:cNvPr id="685" name="Title 1"/>
          <p:cNvSpPr/>
          <p:nvPr/>
        </p:nvSpPr>
        <p:spPr>
          <a:xfrm>
            <a:off x="457200" y="2554200"/>
            <a:ext cx="822024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At</a:t>
            </a: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the weekend, I am going to the cinema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6" name="Title 1"/>
          <p:cNvSpPr/>
          <p:nvPr/>
        </p:nvSpPr>
        <p:spPr>
          <a:xfrm>
            <a:off x="457200" y="3544920"/>
            <a:ext cx="8220240" cy="9954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I go to swimming lessons </a:t>
            </a:r>
            <a:r>
              <a:rPr b="0" lang="en-GB" sz="28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on</a:t>
            </a: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Thursdays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7" name="Title 1"/>
          <p:cNvSpPr/>
          <p:nvPr/>
        </p:nvSpPr>
        <p:spPr>
          <a:xfrm>
            <a:off x="457200" y="4533840"/>
            <a:ext cx="822024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Leaves turn brown </a:t>
            </a:r>
            <a:r>
              <a:rPr b="0" lang="en-GB" sz="28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in</a:t>
            </a: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the Autumn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Prepositions of Time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89" name="Rounded Rectangle 2"/>
          <p:cNvSpPr/>
          <p:nvPr/>
        </p:nvSpPr>
        <p:spPr>
          <a:xfrm>
            <a:off x="1828800" y="1473120"/>
            <a:ext cx="5477040" cy="601920"/>
          </a:xfrm>
          <a:prstGeom prst="roundRect">
            <a:avLst>
              <a:gd name="adj" fmla="val 16667"/>
            </a:avLst>
          </a:prstGeom>
          <a:solidFill>
            <a:srgbClr val="35c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There are many more prepositions that show and signal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time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.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690" name="Group 8"/>
          <p:cNvGrpSpPr/>
          <p:nvPr/>
        </p:nvGrpSpPr>
        <p:grpSpPr>
          <a:xfrm>
            <a:off x="1182600" y="2693880"/>
            <a:ext cx="6769080" cy="2793960"/>
            <a:chOff x="1182600" y="2693880"/>
            <a:chExt cx="6769080" cy="2793960"/>
          </a:xfrm>
        </p:grpSpPr>
        <p:grpSp>
          <p:nvGrpSpPr>
            <p:cNvPr id="691" name="Group 7"/>
            <p:cNvGrpSpPr/>
            <p:nvPr/>
          </p:nvGrpSpPr>
          <p:grpSpPr>
            <a:xfrm>
              <a:off x="1182600" y="2693880"/>
              <a:ext cx="1153080" cy="2793960"/>
              <a:chOff x="1182600" y="2693880"/>
              <a:chExt cx="1153080" cy="2793960"/>
            </a:xfrm>
          </p:grpSpPr>
          <p:sp>
            <p:nvSpPr>
              <p:cNvPr id="692" name="Oval 44"/>
              <p:cNvSpPr/>
              <p:nvPr/>
            </p:nvSpPr>
            <p:spPr>
              <a:xfrm>
                <a:off x="1182600" y="4335480"/>
                <a:ext cx="1153080" cy="115236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before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93" name="Oval 69"/>
              <p:cNvSpPr/>
              <p:nvPr/>
            </p:nvSpPr>
            <p:spPr>
              <a:xfrm>
                <a:off x="1182600" y="2693880"/>
                <a:ext cx="1153080" cy="115236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before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grpSp>
          <p:nvGrpSpPr>
            <p:cNvPr id="694" name="Group 70"/>
            <p:cNvGrpSpPr/>
            <p:nvPr/>
          </p:nvGrpSpPr>
          <p:grpSpPr>
            <a:xfrm>
              <a:off x="3054600" y="2693880"/>
              <a:ext cx="1153080" cy="2793960"/>
              <a:chOff x="3054600" y="2693880"/>
              <a:chExt cx="1153080" cy="2793960"/>
            </a:xfrm>
          </p:grpSpPr>
          <p:sp>
            <p:nvSpPr>
              <p:cNvPr id="695" name="Oval 71"/>
              <p:cNvSpPr/>
              <p:nvPr/>
            </p:nvSpPr>
            <p:spPr>
              <a:xfrm>
                <a:off x="3054600" y="4335480"/>
                <a:ext cx="1153080" cy="115236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during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96" name="Oval 72"/>
              <p:cNvSpPr/>
              <p:nvPr/>
            </p:nvSpPr>
            <p:spPr>
              <a:xfrm>
                <a:off x="3054600" y="2693880"/>
                <a:ext cx="1153080" cy="115236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since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grpSp>
          <p:nvGrpSpPr>
            <p:cNvPr id="697" name="Group 73"/>
            <p:cNvGrpSpPr/>
            <p:nvPr/>
          </p:nvGrpSpPr>
          <p:grpSpPr>
            <a:xfrm>
              <a:off x="4926600" y="2693880"/>
              <a:ext cx="1153080" cy="2793960"/>
              <a:chOff x="4926600" y="2693880"/>
              <a:chExt cx="1153080" cy="2793960"/>
            </a:xfrm>
          </p:grpSpPr>
          <p:sp>
            <p:nvSpPr>
              <p:cNvPr id="698" name="Oval 74"/>
              <p:cNvSpPr/>
              <p:nvPr/>
            </p:nvSpPr>
            <p:spPr>
              <a:xfrm>
                <a:off x="4926600" y="4335480"/>
                <a:ext cx="1153080" cy="115236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as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99" name="Oval 75"/>
              <p:cNvSpPr/>
              <p:nvPr/>
            </p:nvSpPr>
            <p:spPr>
              <a:xfrm>
                <a:off x="4926600" y="2693880"/>
                <a:ext cx="1153080" cy="115236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until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grpSp>
          <p:nvGrpSpPr>
            <p:cNvPr id="700" name="Group 76"/>
            <p:cNvGrpSpPr/>
            <p:nvPr/>
          </p:nvGrpSpPr>
          <p:grpSpPr>
            <a:xfrm>
              <a:off x="6798600" y="2693880"/>
              <a:ext cx="1153080" cy="2793960"/>
              <a:chOff x="6798600" y="2693880"/>
              <a:chExt cx="1153080" cy="2793960"/>
            </a:xfrm>
          </p:grpSpPr>
          <p:sp>
            <p:nvSpPr>
              <p:cNvPr id="701" name="Oval 77"/>
              <p:cNvSpPr/>
              <p:nvPr/>
            </p:nvSpPr>
            <p:spPr>
              <a:xfrm>
                <a:off x="6798600" y="4335480"/>
                <a:ext cx="1153080" cy="115236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past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702" name="Oval 78"/>
              <p:cNvSpPr/>
              <p:nvPr/>
            </p:nvSpPr>
            <p:spPr>
              <a:xfrm>
                <a:off x="6798600" y="2693880"/>
                <a:ext cx="1153080" cy="115236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by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Prepositions of Movement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04" name="Title 1"/>
          <p:cNvSpPr/>
          <p:nvPr/>
        </p:nvSpPr>
        <p:spPr>
          <a:xfrm>
            <a:off x="457200" y="2554200"/>
            <a:ext cx="822024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Yasmin zoomed down the slide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05" name="Title 1"/>
          <p:cNvSpPr/>
          <p:nvPr/>
        </p:nvSpPr>
        <p:spPr>
          <a:xfrm>
            <a:off x="457200" y="3544920"/>
            <a:ext cx="8220240" cy="9954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pig jumped into the pond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06" name="Title 1"/>
          <p:cNvSpPr/>
          <p:nvPr/>
        </p:nvSpPr>
        <p:spPr>
          <a:xfrm>
            <a:off x="457200" y="453708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Ben reluctantly got out of bed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07" name="Rounded Rectangle 11"/>
          <p:cNvSpPr/>
          <p:nvPr/>
        </p:nvSpPr>
        <p:spPr>
          <a:xfrm>
            <a:off x="1828800" y="1473120"/>
            <a:ext cx="5477040" cy="601920"/>
          </a:xfrm>
          <a:prstGeom prst="roundRect">
            <a:avLst>
              <a:gd name="adj" fmla="val 16667"/>
            </a:avLst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Other prepositions can show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movement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or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direction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 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08" name="Oval 20"/>
          <p:cNvSpPr/>
          <p:nvPr/>
        </p:nvSpPr>
        <p:spPr>
          <a:xfrm rot="681000">
            <a:off x="-824040" y="5837400"/>
            <a:ext cx="3246480" cy="1331640"/>
          </a:xfrm>
          <a:prstGeom prst="ellipse">
            <a:avLst/>
          </a:prstGeom>
          <a:solidFill>
            <a:srgbClr val="80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709" name="Picture 6" descr=""/>
          <p:cNvPicPr/>
          <p:nvPr/>
        </p:nvPicPr>
        <p:blipFill>
          <a:blip r:embed="rId1"/>
          <a:stretch/>
        </p:blipFill>
        <p:spPr>
          <a:xfrm>
            <a:off x="-233280" y="5029200"/>
            <a:ext cx="1677960" cy="1560600"/>
          </a:xfrm>
          <a:prstGeom prst="rect">
            <a:avLst/>
          </a:prstGeom>
          <a:ln w="0">
            <a:noFill/>
          </a:ln>
        </p:spPr>
      </p:pic>
      <p:sp>
        <p:nvSpPr>
          <p:cNvPr id="710" name="Title 1"/>
          <p:cNvSpPr/>
          <p:nvPr/>
        </p:nvSpPr>
        <p:spPr>
          <a:xfrm>
            <a:off x="457200" y="2558880"/>
            <a:ext cx="8220240" cy="9954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Yasmin zoomed </a:t>
            </a:r>
            <a:r>
              <a:rPr b="0" lang="en-GB" sz="28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down</a:t>
            </a: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the slide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11" name="Title 1"/>
          <p:cNvSpPr/>
          <p:nvPr/>
        </p:nvSpPr>
        <p:spPr>
          <a:xfrm>
            <a:off x="457200" y="355140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pig jumped </a:t>
            </a:r>
            <a:r>
              <a:rPr b="0" lang="en-GB" sz="28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into</a:t>
            </a: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the pond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12" name="Title 1"/>
          <p:cNvSpPr/>
          <p:nvPr/>
        </p:nvSpPr>
        <p:spPr>
          <a:xfrm>
            <a:off x="457200" y="454032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Ben reluctantly got </a:t>
            </a:r>
            <a:r>
              <a:rPr b="0" lang="en-GB" sz="28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out of </a:t>
            </a: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bed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Prepositions: The Tricky Bit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14" name="Rounded Rectangle 11"/>
          <p:cNvSpPr/>
          <p:nvPr/>
        </p:nvSpPr>
        <p:spPr>
          <a:xfrm>
            <a:off x="1828800" y="1473120"/>
            <a:ext cx="5477040" cy="601920"/>
          </a:xfrm>
          <a:prstGeom prst="roundRect">
            <a:avLst>
              <a:gd name="adj" fmla="val 16667"/>
            </a:avLst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Some prepositions can also be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subordinating conjunctions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 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715" name="Group 2"/>
          <p:cNvGrpSpPr/>
          <p:nvPr/>
        </p:nvGrpSpPr>
        <p:grpSpPr>
          <a:xfrm>
            <a:off x="914400" y="2322360"/>
            <a:ext cx="7305840" cy="568440"/>
            <a:chOff x="914400" y="2322360"/>
            <a:chExt cx="7305840" cy="568440"/>
          </a:xfrm>
        </p:grpSpPr>
        <p:sp>
          <p:nvSpPr>
            <p:cNvPr id="716" name="Oval 28"/>
            <p:cNvSpPr/>
            <p:nvPr/>
          </p:nvSpPr>
          <p:spPr>
            <a:xfrm>
              <a:off x="914400" y="2322360"/>
              <a:ext cx="1152360" cy="568440"/>
            </a:xfrm>
            <a:prstGeom prst="ellipse">
              <a:avLst/>
            </a:prstGeom>
            <a:solidFill>
              <a:srgbClr val="c14779"/>
            </a:solidFill>
            <a:ln w="25560">
              <a:solidFill>
                <a:srgbClr val="35cb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Sassoon Infant Rg"/>
                </a:rPr>
                <a:t>after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717" name="Oval 26"/>
            <p:cNvSpPr/>
            <p:nvPr/>
          </p:nvSpPr>
          <p:spPr>
            <a:xfrm>
              <a:off x="2452680" y="2322360"/>
              <a:ext cx="1152360" cy="568440"/>
            </a:xfrm>
            <a:prstGeom prst="ellipse">
              <a:avLst/>
            </a:prstGeom>
            <a:solidFill>
              <a:srgbClr val="c14779"/>
            </a:solidFill>
            <a:ln w="25560">
              <a:solidFill>
                <a:srgbClr val="35cb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Sassoon Infant Rg"/>
                </a:rPr>
                <a:t>before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718" name="Oval 24"/>
            <p:cNvSpPr/>
            <p:nvPr/>
          </p:nvSpPr>
          <p:spPr>
            <a:xfrm>
              <a:off x="3990960" y="2322360"/>
              <a:ext cx="1152360" cy="568440"/>
            </a:xfrm>
            <a:prstGeom prst="ellipse">
              <a:avLst/>
            </a:prstGeom>
            <a:solidFill>
              <a:srgbClr val="c14779"/>
            </a:solidFill>
            <a:ln w="25560">
              <a:solidFill>
                <a:srgbClr val="35cb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Sassoon Infant Rg"/>
                </a:rPr>
                <a:t>until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719" name="Oval 22"/>
            <p:cNvSpPr/>
            <p:nvPr/>
          </p:nvSpPr>
          <p:spPr>
            <a:xfrm>
              <a:off x="5529240" y="2322360"/>
              <a:ext cx="1152360" cy="568440"/>
            </a:xfrm>
            <a:prstGeom prst="ellipse">
              <a:avLst/>
            </a:prstGeom>
            <a:solidFill>
              <a:srgbClr val="c14779"/>
            </a:solidFill>
            <a:ln w="25560">
              <a:solidFill>
                <a:srgbClr val="35cb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Sassoon Infant Rg"/>
                </a:rPr>
                <a:t>as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720" name="Oval 29"/>
            <p:cNvSpPr/>
            <p:nvPr/>
          </p:nvSpPr>
          <p:spPr>
            <a:xfrm>
              <a:off x="7067880" y="2322360"/>
              <a:ext cx="1152360" cy="568440"/>
            </a:xfrm>
            <a:prstGeom prst="ellipse">
              <a:avLst/>
            </a:prstGeom>
            <a:solidFill>
              <a:srgbClr val="c14779"/>
            </a:solidFill>
            <a:ln w="25560">
              <a:solidFill>
                <a:srgbClr val="35cb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Sassoon Infant Rg"/>
                </a:rPr>
                <a:t>since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sp>
        <p:nvSpPr>
          <p:cNvPr id="721" name="Title 1"/>
          <p:cNvSpPr/>
          <p:nvPr/>
        </p:nvSpPr>
        <p:spPr>
          <a:xfrm>
            <a:off x="457200" y="274320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Since</a:t>
            </a: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winning the contest, Vicky had become famous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2" name="Title 1"/>
          <p:cNvSpPr/>
          <p:nvPr/>
        </p:nvSpPr>
        <p:spPr>
          <a:xfrm>
            <a:off x="457200" y="3500280"/>
            <a:ext cx="8220240" cy="4734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194760" bIns="19476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14779"/>
                </a:solidFill>
                <a:latin typeface="Sassoon Infant Rg"/>
                <a:ea typeface="Sassoon Infant Rg"/>
              </a:rPr>
              <a:t>In this example ‘since’ is used as a subordinating conjunction to form a subordinate clause. 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3" name="Title 1"/>
          <p:cNvSpPr/>
          <p:nvPr/>
        </p:nvSpPr>
        <p:spPr>
          <a:xfrm>
            <a:off x="457200" y="3798720"/>
            <a:ext cx="822024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I haven’t had a shower </a:t>
            </a:r>
            <a:r>
              <a:rPr b="0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since</a:t>
            </a: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Tuesday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4" name="Title 1"/>
          <p:cNvSpPr/>
          <p:nvPr/>
        </p:nvSpPr>
        <p:spPr>
          <a:xfrm>
            <a:off x="457200" y="4556160"/>
            <a:ext cx="8220240" cy="47304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194400" bIns="1944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14779"/>
                </a:solidFill>
                <a:latin typeface="Sassoon Infant Rg"/>
                <a:ea typeface="Sassoon Infant Rg"/>
              </a:rPr>
              <a:t>In this example ‘since’ is used as a preposition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5" name="Rounded Rectangle 35"/>
          <p:cNvSpPr/>
          <p:nvPr/>
        </p:nvSpPr>
        <p:spPr>
          <a:xfrm>
            <a:off x="917640" y="5232240"/>
            <a:ext cx="7299360" cy="760680"/>
          </a:xfrm>
          <a:prstGeom prst="roundRect">
            <a:avLst>
              <a:gd name="adj" fmla="val 16667"/>
            </a:avLst>
          </a:prstGeom>
          <a:solidFill>
            <a:srgbClr val="35c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This can be very confusing! If the word is used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within a phrase that contains a subject and a verb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, then it is usually being used as a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subordinating conjunction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Sassoon Infant Md"/>
              </a:rPr>
              <a:t>Quiz! Part 1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759240" y="1518120"/>
            <a:ext cx="7625520" cy="5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Underline the </a:t>
            </a:r>
            <a:r>
              <a:rPr b="1" lang="en-GB" sz="1800" spc="-1" strike="noStrike">
                <a:solidFill>
                  <a:srgbClr val="ffffff"/>
                </a:solidFill>
                <a:latin typeface="Sassoon Infant Md"/>
              </a:rPr>
              <a:t>prepositions</a:t>
            </a: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 in the following sentences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8" name="Content Placeholder 2"/>
          <p:cNvSpPr/>
          <p:nvPr/>
        </p:nvSpPr>
        <p:spPr>
          <a:xfrm>
            <a:off x="1044720" y="2165400"/>
            <a:ext cx="7632720" cy="416088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Sassoon Infant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The children giggled through the puppet show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Sassoon Infant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Sassoon Infant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Under the bridge, the troll hid and waited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Sassoon Infant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Sassoon Infant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I am going to Lapland before Christmas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Sassoon Infant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Sassoon Infant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The ramblers climbed over the fence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Sassoon Infant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Sassoon Infant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Gina lives next to the fruit shop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9" name="Straight Connector 4"/>
          <p:cNvSpPr/>
          <p:nvPr/>
        </p:nvSpPr>
        <p:spPr>
          <a:xfrm>
            <a:off x="3130560" y="2479680"/>
            <a:ext cx="650880" cy="0"/>
          </a:xfrm>
          <a:prstGeom prst="line">
            <a:avLst/>
          </a:prstGeom>
          <a:ln w="50760">
            <a:solidFill>
              <a:srgbClr val="35cb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30" name="Straight Connector 15"/>
          <p:cNvSpPr/>
          <p:nvPr/>
        </p:nvSpPr>
        <p:spPr>
          <a:xfrm>
            <a:off x="1441440" y="3154320"/>
            <a:ext cx="469800" cy="0"/>
          </a:xfrm>
          <a:prstGeom prst="line">
            <a:avLst/>
          </a:prstGeom>
          <a:ln w="50760">
            <a:solidFill>
              <a:srgbClr val="35cb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31" name="Straight Connector 18"/>
          <p:cNvSpPr/>
          <p:nvPr/>
        </p:nvSpPr>
        <p:spPr>
          <a:xfrm>
            <a:off x="3236760" y="4546440"/>
            <a:ext cx="322560" cy="0"/>
          </a:xfrm>
          <a:prstGeom prst="line">
            <a:avLst/>
          </a:prstGeom>
          <a:ln w="50760">
            <a:solidFill>
              <a:srgbClr val="35cb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32" name="Straight Connector 21"/>
          <p:cNvSpPr/>
          <p:nvPr/>
        </p:nvSpPr>
        <p:spPr>
          <a:xfrm>
            <a:off x="2290680" y="5246640"/>
            <a:ext cx="542880" cy="0"/>
          </a:xfrm>
          <a:prstGeom prst="line">
            <a:avLst/>
          </a:prstGeom>
          <a:ln w="50760">
            <a:solidFill>
              <a:srgbClr val="35cb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33" name="Straight Connector 22"/>
          <p:cNvSpPr/>
          <p:nvPr/>
        </p:nvSpPr>
        <p:spPr>
          <a:xfrm>
            <a:off x="3324240" y="3863880"/>
            <a:ext cx="539640" cy="0"/>
          </a:xfrm>
          <a:prstGeom prst="line">
            <a:avLst/>
          </a:prstGeom>
          <a:ln w="50760">
            <a:solidFill>
              <a:srgbClr val="35cb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734" name="Group 28"/>
          <p:cNvGrpSpPr/>
          <p:nvPr/>
        </p:nvGrpSpPr>
        <p:grpSpPr>
          <a:xfrm>
            <a:off x="6308640" y="2738520"/>
            <a:ext cx="2013120" cy="1407960"/>
            <a:chOff x="6308640" y="2738520"/>
            <a:chExt cx="2013120" cy="1407960"/>
          </a:xfrm>
        </p:grpSpPr>
        <p:sp>
          <p:nvSpPr>
            <p:cNvPr id="735" name="Cloud Callout 26"/>
            <p:cNvSpPr/>
            <p:nvPr/>
          </p:nvSpPr>
          <p:spPr>
            <a:xfrm flipH="1">
              <a:off x="6308640" y="2738520"/>
              <a:ext cx="2013120" cy="140796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35c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736" name="Title 20"/>
            <p:cNvSpPr/>
            <p:nvPr/>
          </p:nvSpPr>
          <p:spPr>
            <a:xfrm>
              <a:off x="6985080" y="3032280"/>
              <a:ext cx="659880" cy="866160"/>
            </a:xfrm>
            <a:custGeom>
              <a:avLst/>
              <a:gdLst>
                <a:gd name="textAreaLeft" fmla="*/ 18360 w 659880"/>
                <a:gd name="textAreaRight" fmla="*/ 641520 w 659880"/>
                <a:gd name="textAreaTop" fmla="*/ 18360 h 866160"/>
                <a:gd name="textAreaBottom" fmla="*/ 847800 h 866160"/>
              </a:gdLst>
              <a:ahLst/>
              <a:rect l="textAreaLeft" t="textAreaTop" r="textAreaRight" b="textAreaBottom"/>
              <a:pathLst>
                <a:path w="21600" h="28349">
                  <a:moveTo>
                    <a:pt x="2082" y="0"/>
                  </a:moveTo>
                  <a:arcTo wR="2082" hR="2082" stAng="16200000" swAng="-5400000"/>
                  <a:lnTo>
                    <a:pt x="0" y="26267"/>
                  </a:lnTo>
                  <a:arcTo wR="2082" hR="2082" stAng="10800000" swAng="-5400000"/>
                  <a:lnTo>
                    <a:pt x="19518" y="28349"/>
                  </a:lnTo>
                  <a:arcTo wR="2082" hR="2082" stAng="5400000" swAng="-5400000"/>
                  <a:lnTo>
                    <a:pt x="21600" y="2082"/>
                  </a:lnTo>
                  <a:arcTo wR="2082" hR="208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600" spc="-1" strike="noStrike">
                  <a:solidFill>
                    <a:srgbClr val="ffffff"/>
                  </a:solidFill>
                  <a:latin typeface="Kalam"/>
                  <a:ea typeface="Kalam"/>
                </a:rPr>
                <a:t>?</a:t>
              </a:r>
              <a:endParaRPr b="0" lang="en-US" sz="66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pic>
        <p:nvPicPr>
          <p:cNvPr id="737" name="Picture 25" descr=""/>
          <p:cNvPicPr/>
          <p:nvPr/>
        </p:nvPicPr>
        <p:blipFill>
          <a:blip r:embed="rId1"/>
          <a:stretch/>
        </p:blipFill>
        <p:spPr>
          <a:xfrm>
            <a:off x="7454880" y="3716280"/>
            <a:ext cx="152244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Sassoon Infant Md"/>
              </a:rPr>
              <a:t>Quiz! Part 2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759240" y="1518120"/>
            <a:ext cx="7625520" cy="5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Tick all the sentences that contain a </a:t>
            </a:r>
            <a:r>
              <a:rPr b="1" lang="en-GB" sz="1800" spc="-1" strike="noStrike">
                <a:solidFill>
                  <a:srgbClr val="ffffff"/>
                </a:solidFill>
                <a:latin typeface="Sassoon Infant Md"/>
              </a:rPr>
              <a:t>preposition</a:t>
            </a: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40" name="Content Placeholder 2"/>
          <p:cNvSpPr/>
          <p:nvPr/>
        </p:nvSpPr>
        <p:spPr>
          <a:xfrm>
            <a:off x="1044720" y="2165400"/>
            <a:ext cx="7632720" cy="416088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Sassoon Infant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We played football in the garden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Sassoon Infant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Sassoon Infant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Before lunch, Class 11 had PE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Sassoon Infant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Sassoon Infant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Frosty the Snowman had a carrot nose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Sassoon Infant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Sassoon Infant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I’ve been working at the restaurant for a month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41" name="Rectangle 5"/>
          <p:cNvSpPr/>
          <p:nvPr/>
        </p:nvSpPr>
        <p:spPr>
          <a:xfrm>
            <a:off x="6637320" y="2066760"/>
            <a:ext cx="395280" cy="395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42" name="Rectangle 16"/>
          <p:cNvSpPr/>
          <p:nvPr/>
        </p:nvSpPr>
        <p:spPr>
          <a:xfrm>
            <a:off x="6637320" y="2759040"/>
            <a:ext cx="395280" cy="395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43" name="Rectangle 17"/>
          <p:cNvSpPr/>
          <p:nvPr/>
        </p:nvSpPr>
        <p:spPr>
          <a:xfrm>
            <a:off x="6637320" y="3451320"/>
            <a:ext cx="395280" cy="395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44" name="Rectangle 19"/>
          <p:cNvSpPr/>
          <p:nvPr/>
        </p:nvSpPr>
        <p:spPr>
          <a:xfrm>
            <a:off x="6637320" y="4143240"/>
            <a:ext cx="395280" cy="395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745" name="Picture 6" descr=""/>
          <p:cNvPicPr/>
          <p:nvPr/>
        </p:nvPicPr>
        <p:blipFill>
          <a:blip r:embed="rId1"/>
          <a:stretch/>
        </p:blipFill>
        <p:spPr>
          <a:xfrm>
            <a:off x="6703920" y="1987560"/>
            <a:ext cx="492120" cy="42552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20" descr=""/>
          <p:cNvPicPr/>
          <p:nvPr/>
        </p:nvPicPr>
        <p:blipFill>
          <a:blip r:embed="rId2"/>
          <a:stretch/>
        </p:blipFill>
        <p:spPr>
          <a:xfrm>
            <a:off x="6703920" y="2679840"/>
            <a:ext cx="492120" cy="4237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23" descr=""/>
          <p:cNvPicPr/>
          <p:nvPr/>
        </p:nvPicPr>
        <p:blipFill>
          <a:blip r:embed="rId3"/>
          <a:stretch/>
        </p:blipFill>
        <p:spPr>
          <a:xfrm>
            <a:off x="6703920" y="4060800"/>
            <a:ext cx="49212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6:09:27Z</dcterms:created>
  <dc:creator>Twinkl</dc:creator>
  <dc:description/>
  <dc:language>en-US</dc:language>
  <cp:lastModifiedBy>Jon Seaton</cp:lastModifiedBy>
  <dcterms:modified xsi:type="dcterms:W3CDTF">2016-04-08T12:41:53Z</dcterms:modified>
  <cp:revision>120</cp:revision>
  <dc:subject/>
  <dc:title>Geography</dc:title>
</cp:coreProperties>
</file>